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3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3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162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162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39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15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916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15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916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39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39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39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39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162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39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6935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39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39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62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52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39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39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39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162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39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39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52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39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162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162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39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615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8916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5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615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78916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39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3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162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3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6935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39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39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62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3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162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3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3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005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663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39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3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3300"/>
              </a:lnSpc>
              <a:buClr>
                <a:srgbClr val="e3e3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e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  <a:p>
            <a:pPr lvl="1" marL="743040" indent="-285840">
              <a:lnSpc>
                <a:spcPts val="3300"/>
              </a:lnSpc>
              <a:buClr>
                <a:srgbClr val="e3e3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e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  <a:p>
            <a:pPr lvl="2" marL="1143000" indent="-228600">
              <a:lnSpc>
                <a:spcPts val="3300"/>
              </a:lnSpc>
              <a:buClr>
                <a:srgbClr val="e3e3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e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  <a:p>
            <a:pPr lvl="3" marL="1600200" indent="-228600">
              <a:lnSpc>
                <a:spcPts val="3300"/>
              </a:lnSpc>
              <a:buClr>
                <a:srgbClr val="e3e3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e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  <a:p>
            <a:pPr lvl="4" marL="2057400" indent="-228600">
              <a:lnSpc>
                <a:spcPts val="3300"/>
              </a:lnSpc>
              <a:buClr>
                <a:srgbClr val="e3e3e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e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  <a:p>
            <a:pPr lvl="5" marL="2057400" indent="-228600">
              <a:lnSpc>
                <a:spcPts val="3300"/>
              </a:lnSpc>
              <a:buClr>
                <a:srgbClr val="ff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e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  <a:p>
            <a:pPr lvl="6" marL="2057400" indent="-228600">
              <a:lnSpc>
                <a:spcPts val="3300"/>
              </a:lnSpc>
              <a:buClr>
                <a:srgbClr val="ff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e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3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5440" cy="68468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39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3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ts val="33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 2 is the source for gd_example.eps. </a:t>
            </a: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  <a:p>
            <a:pPr marL="325800" indent="-325800">
              <a:lnSpc>
                <a:spcPts val="33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 to regenerate gd_example.eps:</a:t>
            </a: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  <a:p>
            <a:pPr lvl="1" marL="705600" indent="-271440">
              <a:lnSpc>
                <a:spcPts val="33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ght-click the image in slide 2</a:t>
            </a:r>
            <a:endParaRPr b="0" i="1" lang="en-US" sz="2000" spc="-1" strike="noStrike">
              <a:solidFill>
                <a:srgbClr val="e3e3e3"/>
              </a:solidFill>
              <a:latin typeface="Arial"/>
            </a:endParaRPr>
          </a:p>
          <a:p>
            <a:pPr lvl="1" marL="705600" indent="-271440">
              <a:lnSpc>
                <a:spcPts val="33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lect: Save As Picture</a:t>
            </a:r>
            <a:endParaRPr b="0" i="1" lang="en-US" sz="2000" spc="-1" strike="noStrike">
              <a:solidFill>
                <a:srgbClr val="e3e3e3"/>
              </a:solidFill>
              <a:latin typeface="Arial"/>
            </a:endParaRPr>
          </a:p>
          <a:p>
            <a:pPr lvl="1" marL="705600" indent="-271440">
              <a:lnSpc>
                <a:spcPts val="33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ve as a temporary tif file.</a:t>
            </a:r>
            <a:endParaRPr b="0" i="1" lang="en-US" sz="2000" spc="-1" strike="noStrike">
              <a:solidFill>
                <a:srgbClr val="e3e3e3"/>
              </a:solidFill>
              <a:latin typeface="Arial"/>
            </a:endParaRPr>
          </a:p>
          <a:p>
            <a:pPr lvl="1" marL="705600" indent="-271440">
              <a:lnSpc>
                <a:spcPts val="33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e image magick convert to convert from tif to eps.</a:t>
            </a:r>
            <a:endParaRPr b="0" i="1" lang="en-US" sz="2000" spc="-1" strike="noStrike">
              <a:solidFill>
                <a:srgbClr val="e3e3e3"/>
              </a:solidFill>
              <a:latin typeface="Arial"/>
            </a:endParaRPr>
          </a:p>
          <a:p>
            <a:pPr lvl="1" marL="705600" indent="-271440">
              <a:lnSpc>
                <a:spcPts val="33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py the gd_example.eps file to the images directory.</a:t>
            </a:r>
            <a:endParaRPr b="0" i="1" lang="en-US" sz="2000" spc="-1" strike="noStrike">
              <a:solidFill>
                <a:srgbClr val="e3e3e3"/>
              </a:solidFill>
              <a:latin typeface="Arial"/>
            </a:endParaRPr>
          </a:p>
          <a:p>
            <a:pPr lvl="1" marL="705600"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e3e3e3"/>
              </a:solidFill>
              <a:latin typeface="Arial"/>
            </a:endParaRPr>
          </a:p>
          <a:p>
            <a:pPr marL="325800" indent="-325800">
              <a:lnSpc>
                <a:spcPts val="33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 3 contains a an example of stochastic gradient descent (Robbins-Monro), but this image is not used in the manual.</a:t>
            </a:r>
            <a:endParaRPr b="0" lang="en-US" sz="2000" spc="-1" strike="noStrike">
              <a:solidFill>
                <a:srgbClr val="e3e3e3"/>
              </a:solidFill>
              <a:latin typeface="Arial"/>
            </a:endParaRPr>
          </a:p>
          <a:p>
            <a:pPr lvl="1" marL="705600"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e3e3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27000"/>
            <a:ext cx="9144000" cy="6886080"/>
            <a:chOff x="0" y="27000"/>
            <a:chExt cx="9144000" cy="6886080"/>
          </a:xfrm>
        </p:grpSpPr>
        <p:sp>
          <p:nvSpPr>
            <p:cNvPr id="80" name=""/>
            <p:cNvSpPr/>
            <p:nvPr/>
          </p:nvSpPr>
          <p:spPr>
            <a:xfrm>
              <a:off x="0" y="2700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6633"/>
                </a:solidFill>
                <a:latin typeface="Arial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257040" y="345960"/>
              <a:ext cx="8542440" cy="497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7000" y="2438280"/>
              <a:ext cx="74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ff6633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612800" y="4614840"/>
              <a:ext cx="16347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thematica1"/>
                  <a:ea typeface="Mathematica1"/>
                </a:rPr>
                <a:t>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[0] = t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ff6633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60560" y="4178160"/>
              <a:ext cx="15933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thematica1"/>
                  <a:ea typeface="Mathematica1"/>
                </a:rPr>
                <a:t>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[1] =</a:t>
              </a:r>
              <a:r>
                <a:rPr b="0" lang="en-US" sz="2400" spc="-1" strike="noStrike">
                  <a:solidFill>
                    <a:srgbClr val="ff6633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600" spc="-1" strike="noStrike">
                <a:solidFill>
                  <a:srgbClr val="ff6633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0240" y="1316160"/>
              <a:ext cx="871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6633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49960" y="208080"/>
              <a:ext cx="2700360" cy="1393560"/>
            </a:xfr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6633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6353280" y="27000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7658280" y="27000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340160" y="5108400"/>
              <a:ext cx="2702160" cy="139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609" y="1769"/>
                  </a:moveTo>
                  <a:lnTo>
                    <a:pt x="-1586" y="1769"/>
                  </a:lnTo>
                  <a:lnTo>
                    <a:pt x="-1586" y="-3268"/>
                  </a:lnTo>
                  <a:lnTo>
                    <a:pt x="5914" y="-10763"/>
                  </a:lnTo>
                </a:path>
                <a:path w="21600" h="21600">
                  <a:moveTo>
                    <a:pt x="-609" y="0"/>
                  </a:moveTo>
                  <a:lnTo>
                    <a:pt x="-609" y="21600"/>
                  </a:lnTo>
                </a:path>
              </a:pathLst>
            </a:cu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6633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4444920" y="517212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024520" y="4387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6633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5"/>
            <a:stretch/>
          </p:blipFill>
          <p:spPr>
            <a:xfrm>
              <a:off x="5749920" y="517212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349880" y="3743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6633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37000" y="3828960"/>
              <a:ext cx="26028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6633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67080" y="2884320"/>
              <a:ext cx="88920" cy="87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6633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4312800" y="3000240"/>
              <a:ext cx="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6633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314600" y="1459080"/>
              <a:ext cx="401400" cy="13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6633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78160" y="1577880"/>
              <a:ext cx="152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art point</a:t>
              </a:r>
              <a:endParaRPr b="0" lang="en-US" sz="2400" spc="-1" strike="noStrike">
                <a:solidFill>
                  <a:srgbClr val="ff6633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39000" y="645336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ff66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6633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6280" y="20520"/>
              <a:ext cx="8939520" cy="6792840"/>
              <a:chOff x="26280" y="20520"/>
              <a:chExt cx="8939520" cy="6792840"/>
            </a:xfrm>
          </p:grpSpPr>
          <p:pic>
            <p:nvPicPr>
              <p:cNvPr id="10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040" y="803520"/>
                <a:ext cx="8541360" cy="49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26280" y="2894400"/>
                <a:ext cx="749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Lucida Sans Unicode"/>
                  </a:rPr>
                  <a:t> 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600" spc="-1" strike="noStrike">
                  <a:solidFill>
                    <a:srgbClr val="ff6633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12800" y="5072040"/>
                <a:ext cx="163476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Mathematica1"/>
                    <a:ea typeface="Mathematica1"/>
                  </a:rPr>
                  <a:t>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[0] = t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3600" spc="-1" strike="noStrike">
                  <a:solidFill>
                    <a:srgbClr val="ff6633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360560" y="4636080"/>
                <a:ext cx="159336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Mathematica1"/>
                    <a:ea typeface="Mathematica1"/>
                  </a:rPr>
                  <a:t>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[1] =</a:t>
                </a:r>
                <a:r>
                  <a:rPr b="0" lang="en-US" sz="2400" spc="-1" strike="noStrike">
                    <a:solidFill>
                      <a:srgbClr val="ff6633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3600" spc="-1" strike="noStrike">
                  <a:solidFill>
                    <a:srgbClr val="ff6633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709160" y="1773360"/>
                <a:ext cx="88200" cy="8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6633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266160" y="20520"/>
                <a:ext cx="2699640" cy="1393560"/>
              </a:xfr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6633"/>
                  </a:solidFill>
                  <a:latin typeface="Arial"/>
                </a:endParaRPr>
              </a:p>
            </p:txBody>
          </p:sp>
          <p:pic>
            <p:nvPicPr>
              <p:cNvPr id="10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52560" y="106560"/>
                <a:ext cx="1218960" cy="12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58280" y="106560"/>
                <a:ext cx="1218960" cy="12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4350600" y="5417640"/>
                <a:ext cx="2700720" cy="139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fill="none" w="21600" h="21600">
                    <a:moveTo>
                      <a:pt x="-737" y="2139"/>
                    </a:moveTo>
                    <a:lnTo>
                      <a:pt x="-1658" y="2139"/>
                    </a:lnTo>
                    <a:lnTo>
                      <a:pt x="-1658" y="-2139"/>
                    </a:lnTo>
                    <a:lnTo>
                      <a:pt x="5834" y="-8468"/>
                    </a:lnTo>
                  </a:path>
                  <a:path w="21600" h="21600">
                    <a:moveTo>
                      <a:pt x="-737" y="0"/>
                    </a:moveTo>
                    <a:lnTo>
                      <a:pt x="-737" y="21600"/>
                    </a:lnTo>
                  </a:path>
                </a:pathLst>
              </a:cu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6633"/>
                  </a:solidFill>
                  <a:latin typeface="Arial"/>
                </a:endParaRPr>
              </a:p>
            </p:txBody>
          </p:sp>
          <p:pic>
            <p:nvPicPr>
              <p:cNvPr id="1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38440" y="5505840"/>
                <a:ext cx="1219320" cy="12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5023800" y="4845600"/>
                <a:ext cx="88200" cy="8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6633"/>
                  </a:solidFill>
                  <a:latin typeface="Arial"/>
                </a:endParaRPr>
              </a:p>
            </p:txBody>
          </p:sp>
          <p:pic>
            <p:nvPicPr>
              <p:cNvPr id="1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744160" y="5505840"/>
                <a:ext cx="1218960" cy="12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3914640" y="3591360"/>
                <a:ext cx="87840" cy="8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6633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000680" y="3677760"/>
                <a:ext cx="52200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6633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522680" y="3852720"/>
                <a:ext cx="88200" cy="8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6633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4350600" y="3939120"/>
                <a:ext cx="172080" cy="43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6633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350600" y="4461480"/>
                <a:ext cx="433440" cy="8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6633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262040" y="4374720"/>
                <a:ext cx="88200" cy="8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6633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08:19:31Z</dcterms:created>
  <dc:creator>Ingeborg de Buijzer</dc:creator>
  <dc:description/>
  <dc:language>en-US</dc:language>
  <cp:lastModifiedBy> RRN</cp:lastModifiedBy>
  <dcterms:modified xsi:type="dcterms:W3CDTF">2008-03-20T16:10:03Z</dcterms:modified>
  <cp:revision>53</cp:revision>
  <dc:subject/>
  <dc:title>PowerPoint Presentation</dc:title>
</cp:coreProperties>
</file>