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667094"/>
        <c:axId val="27735413"/>
      </c:barChart>
      <c:catAx>
        <c:axId val="606670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35413"/>
        <c:crosses val="autoZero"/>
        <c:auto val="1"/>
        <c:lblAlgn val="ctr"/>
        <c:lblOffset val="100"/>
        <c:noMultiLvlLbl val="0"/>
      </c:catAx>
      <c:valAx>
        <c:axId val="277354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670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858A-54BB-4A71-9717-9564B303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4130-9552-4AC2-985F-8CA31155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22BB-5837-440D-83A7-DBCEAE14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5CFE-0DFE-4E0B-87E1-65150198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0ED1-A00F-4D2F-A150-E433EB62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0DFF-820B-44BE-9374-B6ED8234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48CA-2592-4F26-B446-7D6BBC31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AE99-BB16-4F33-9A3E-780C25A6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F923-0C2E-45D1-BD8D-09A8C31E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1908-2F7D-4F65-83DD-4A1FDF59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B758-BDC3-41C3-B41C-A207A502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165D-C794-4151-985F-A4C806BA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DF6AC-89C9-45D5-A006-E0E34939FD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