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30124"/>
        <c:axId val="90415605"/>
      </c:barChart>
      <c:catAx>
        <c:axId val="388301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15605"/>
        <c:crosses val="autoZero"/>
        <c:auto val="1"/>
        <c:lblAlgn val="ctr"/>
        <c:lblOffset val="100"/>
        <c:noMultiLvlLbl val="0"/>
      </c:catAx>
      <c:valAx>
        <c:axId val="904156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301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EAAE-E90A-48D0-9AFD-26A9ACAB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1E6A-2EEC-477D-B069-14751F30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765E-3060-4C90-82BC-9686F536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7B6E-4617-41E1-86D8-045B4E0D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9112-C405-4C9D-AAB1-5D5444ED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3986-FB61-4535-8A01-AB180E7B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FFB0-8B29-445D-AC07-F5384076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2281-150C-43CE-A905-15553263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BC96-E17F-4C45-8BBD-25215CB0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5725-2349-4AFA-9CE0-8013D1CE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808F-AA72-4E0B-9449-E5301842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8C2B-A9BC-4AA7-ADEB-BE6D65D2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AC758-022A-4316-9B1C-7581BCB82C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