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554484"/>
        <c:axId val="98499601"/>
      </c:barChart>
      <c:catAx>
        <c:axId val="865544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499601"/>
        <c:crosses val="autoZero"/>
        <c:auto val="1"/>
        <c:lblAlgn val="ctr"/>
        <c:lblOffset val="100"/>
        <c:noMultiLvlLbl val="0"/>
      </c:catAx>
      <c:valAx>
        <c:axId val="984996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5544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EABE-7927-45DE-AD60-D8B2FBA41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7275-D5C6-4F16-A494-D6AA19C18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DECA-F2E0-4ECD-8A6E-F0190A16A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B91A-5843-4FBB-9A8B-92329B0A8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263E-863F-46D9-841C-69D5CA40C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C9BC-5671-4F67-B934-8469646DD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52F2-A973-4F0D-B014-BF03B8DB9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E6AB-584A-4C21-8C5D-86BA5E960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0C5E-2081-46A9-8A71-7B119EA7F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8C04-241B-43E5-975D-FB8654AA7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69A9-4A16-4824-BBB0-2A611C9D4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C901-587D-45DE-AB98-1346F2398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09568D-9B26-4CA4-A55A-95B9151001B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