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37933"/>
        <c:axId val="63827770"/>
      </c:barChart>
      <c:catAx>
        <c:axId val="48537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27770"/>
        <c:crosses val="autoZero"/>
        <c:auto val="1"/>
        <c:lblAlgn val="ctr"/>
        <c:lblOffset val="100"/>
        <c:noMultiLvlLbl val="0"/>
      </c:catAx>
      <c:valAx>
        <c:axId val="63827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37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389-579D-4004-9BB9-FA34F0EA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575-B990-4D2A-AA79-97EEF281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197-0A68-4BB9-B56D-F936BBD7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5F7-B16A-45B6-87C8-A1CA4C0C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DC3-35FE-4C4F-A9A5-D17DF16A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884-1B7C-4404-870C-ADA5D663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1A9-5968-4698-B51B-6BBA96AB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E15-03FF-4232-B9E3-28F439BE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08A-0C7B-4421-9F96-4D894EDE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297-1C25-488A-8883-9E5EED6F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FCE-AE2D-42D7-B511-7A6E0E22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37E-E836-4647-9F3B-A825DA7A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82CB1-A57B-4348-A4EA-48EEBD3155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