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06058"/>
        <c:axId val="73009672"/>
      </c:barChart>
      <c:catAx>
        <c:axId val="67606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09672"/>
        <c:crosses val="autoZero"/>
        <c:auto val="1"/>
        <c:lblAlgn val="ctr"/>
        <c:lblOffset val="100"/>
        <c:noMultiLvlLbl val="0"/>
      </c:catAx>
      <c:valAx>
        <c:axId val="73009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06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7E8-EDA8-4F27-A21A-128BE7E6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406-5CD3-4EBE-BF41-603559BA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0B1-6A61-4975-98EE-927CECE9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5B4-4C05-4B99-BFB3-CCDCCBDA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D03-1FD1-437C-88E6-5DE6B593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569-527A-424D-AF51-65006AFC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046-3D5F-4E56-9236-8242960E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D51-05D8-4CFC-9E05-A2C475A4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FAD-941E-4555-B69A-5A9714E6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0F3-3B7A-4C51-A10C-E12E695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929-365C-47D3-9393-540E5C09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59A-9AA3-4B50-9C56-5D9BDBCD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AE234-94C3-4726-91D7-FE2BD4D2CE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