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73685"/>
        <c:axId val="95637317"/>
      </c:barChart>
      <c:catAx>
        <c:axId val="56973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37317"/>
        <c:crosses val="autoZero"/>
        <c:auto val="1"/>
        <c:lblAlgn val="ctr"/>
        <c:lblOffset val="100"/>
        <c:noMultiLvlLbl val="0"/>
      </c:catAx>
      <c:valAx>
        <c:axId val="9563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3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B7F-105B-438E-BDF6-05149559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052-577E-4351-8953-FD9D95E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1A0-7291-4B86-9A3A-D874172E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6D7-44B0-48AE-8E74-07204B29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9B2-E922-4787-80B1-1AD4D9D1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EB6-3E01-4E4F-8D77-2447307C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65A-09AD-4381-A1FD-85EDBFB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0CA-5CC8-4371-8D12-F6BC6B0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237-E4FF-4DCC-9C5C-443C449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A6-CE86-43F6-BD18-CA5DAA6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A82-075D-4656-A2F3-4331478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F07-6643-410C-84FF-CC382C3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CDAA4-19C9-4840-8953-763EC17CF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