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38092"/>
        <c:axId val="42042766"/>
      </c:barChart>
      <c:catAx>
        <c:axId val="38838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42766"/>
        <c:crosses val="autoZero"/>
        <c:auto val="1"/>
        <c:lblAlgn val="ctr"/>
        <c:lblOffset val="100"/>
        <c:noMultiLvlLbl val="0"/>
      </c:catAx>
      <c:valAx>
        <c:axId val="42042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8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55E-2A90-458A-9360-C62095FD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5FF-EF57-44F9-9DD9-1FFAC2C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9B3-EF41-4637-922D-079AB973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738-EE0A-41FB-9984-96992CB6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977-1959-444E-A3A0-4695A90A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5BC-FB03-4653-923F-BB75420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43E-DD97-4A4F-B461-BECC341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0D5-4987-4D30-A9ED-6599261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C4F-1145-4632-B3A8-265E3A6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8CC-5BCA-47C8-90B2-510B32F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6F2-2B67-46E6-8050-B9EE5FE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B9E-7B5B-496C-8405-3DCF015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F1580-B4AD-471B-9F90-7704B87B7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