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67036"/>
        <c:axId val="45797345"/>
      </c:barChart>
      <c:catAx>
        <c:axId val="75567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97345"/>
        <c:crosses val="autoZero"/>
        <c:auto val="1"/>
        <c:lblAlgn val="ctr"/>
        <c:lblOffset val="100"/>
        <c:noMultiLvlLbl val="0"/>
      </c:catAx>
      <c:valAx>
        <c:axId val="45797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67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84B-20B8-4125-9AF2-284417E6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AC3-88C1-4F54-AF44-479C1E8A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F4A-B165-4BC4-A1B7-2817A49A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A90-C069-42C6-9E14-F2EBD393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67B-DF1F-4117-8BEC-DB63D436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F6A-7EA1-4484-B8B1-8D0AC6C3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98E-9A13-4D66-972B-20AEF00E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AFC-49CF-4194-B341-B00E9002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4C1-EB6A-4FC5-8458-1504415C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B46-9F3B-4A3D-B788-B8BD16BD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1B6-534A-4EBE-8B6D-01575EDA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C295-492E-4854-8F16-B0672163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BABD4-261C-444E-A39C-9ED3E229F1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