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05734"/>
        <c:axId val="48849800"/>
      </c:barChart>
      <c:catAx>
        <c:axId val="83605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49800"/>
        <c:crosses val="autoZero"/>
        <c:auto val="1"/>
        <c:lblAlgn val="ctr"/>
        <c:lblOffset val="100"/>
        <c:noMultiLvlLbl val="0"/>
      </c:catAx>
      <c:valAx>
        <c:axId val="48849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05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666-C2D8-40E3-9E8C-0BE54341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FD6-8C05-4538-90B9-54720B17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66D-2705-48C4-8170-EA847908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798-0F4B-407D-B8A4-A4F77931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5CBD-8F0C-4906-B7CC-8775F0DA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598-6F7A-40AA-BB44-F2D135EE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1FE-30B0-4209-91C2-9E48B045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F24-2AD3-427E-91BE-5BCB539B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CE3-8262-449C-B1FA-DA68F43F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D80-8769-4C59-B316-AE7B1B65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7F9-87D5-4485-BEA6-55EF82A9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5E8-4FC8-4001-82C0-186D8DF3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B470C-BB1D-4F68-AE7D-13231F26D2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