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668107"/>
        <c:axId val="46350260"/>
      </c:barChart>
      <c:catAx>
        <c:axId val="306681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50260"/>
        <c:crosses val="autoZero"/>
        <c:auto val="1"/>
        <c:lblAlgn val="ctr"/>
        <c:lblOffset val="100"/>
        <c:noMultiLvlLbl val="0"/>
      </c:catAx>
      <c:valAx>
        <c:axId val="463502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681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A5BE-E994-4FB4-8814-3D823E35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2FDE-1D5B-4D5C-BCFF-2E7B3DEA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A99-07BC-4209-A967-0A5FE671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A767-892F-4203-BC46-73D2F076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3DC6-9694-4789-A662-FD9D2311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F3D3-8682-4DB9-9242-D1420E87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C6CC-5F90-44DD-A483-34A6DE69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968A-61F7-48C8-8B6E-E20417E7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8B42-C0C5-41C2-82EB-72F94672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D3C9-220A-4E2F-B08E-CDEC9C1C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29A-3A30-412F-9029-6A360CA7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26E-BFD4-48C4-81DC-3C46B1BA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E5EA7-1340-445A-BE87-A5135B0AB9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