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37330"/>
        <c:axId val="68495056"/>
      </c:barChart>
      <c:catAx>
        <c:axId val="36937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95056"/>
        <c:crosses val="autoZero"/>
        <c:auto val="1"/>
        <c:lblAlgn val="ctr"/>
        <c:lblOffset val="100"/>
        <c:noMultiLvlLbl val="0"/>
      </c:catAx>
      <c:valAx>
        <c:axId val="68495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37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AF8-E889-4C86-A7BE-A43D56AF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09B-EA94-413E-B47B-8A9E2514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B53-FC0D-4996-9E8B-D6E10E6C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D2F-E18E-4405-94A7-1F034844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56E-DBB0-43D7-B9B5-475C16B0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FA5-6E74-4C59-88B6-41F835A8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C2F-871C-4569-932A-CE87B973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79D-5A9A-4762-8FF3-938332A5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382-0FEC-4B62-B2D6-8FCF3F74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638-5C0B-4B06-9AC0-2EA62280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B18-89F2-468E-B7E7-A8E1EB83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556-1B66-4360-8527-90386D5D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565E9-97C4-4B15-9986-88362671E9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