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78546"/>
        <c:axId val="65575858"/>
      </c:barChart>
      <c:catAx>
        <c:axId val="27378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75858"/>
        <c:crosses val="autoZero"/>
        <c:auto val="1"/>
        <c:lblAlgn val="ctr"/>
        <c:lblOffset val="100"/>
        <c:noMultiLvlLbl val="0"/>
      </c:catAx>
      <c:valAx>
        <c:axId val="65575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78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8CE-4601-457B-9CA9-3BE0B599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525-9C30-4872-90D0-971AF326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A81-F8E5-4A2D-A350-1455FD31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A24-B5C3-450C-A6E8-2D39795B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B8C-B1CA-4533-9BA6-A2DDE657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758-97F8-4772-BFE1-6943332D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331-3842-413C-905B-8DCD1DF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46B-B231-4A6D-9BA3-821DE894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248-A7D9-417A-8567-B19C90A2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747-F5E6-4B84-BB45-96FF7419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E34-DCDF-4B29-B88D-3437CED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BFA-3508-4667-83F3-1385864C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194AD-7692-4497-8ADE-70526EF752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