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12056"/>
        <c:axId val="81287915"/>
      </c:barChart>
      <c:catAx>
        <c:axId val="27512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87915"/>
        <c:crosses val="autoZero"/>
        <c:auto val="1"/>
        <c:lblAlgn val="ctr"/>
        <c:lblOffset val="100"/>
        <c:noMultiLvlLbl val="0"/>
      </c:catAx>
      <c:valAx>
        <c:axId val="81287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12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3A7-4850-4C44-89DD-F7E230B9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013-35B2-4F2A-8306-7307F3AD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FA1-1EB3-4F5A-8A83-5B3114FB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0C0-77DC-4350-9013-8F9D768C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D55-9F36-429F-B350-CED46AC6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357-49C9-476A-8C02-F176556B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872-BD24-42DE-94FD-9983F66F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F6A-78D4-4E1A-8F88-8C2B31FE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3BF-FE71-438D-8ABD-2FEA9D41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9FE-CFC3-4451-831B-A73BCD62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E95-CA13-4FAC-9A81-8B90BA84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6D9-6F8D-4057-88B6-522E5E3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25A21-310A-42D4-93B3-ACB3441D3B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