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03995"/>
        <c:axId val="24819176"/>
      </c:barChart>
      <c:catAx>
        <c:axId val="50603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9176"/>
        <c:crosses val="autoZero"/>
        <c:auto val="1"/>
        <c:lblAlgn val="ctr"/>
        <c:lblOffset val="100"/>
        <c:noMultiLvlLbl val="0"/>
      </c:catAx>
      <c:valAx>
        <c:axId val="2481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3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C20-45EF-4660-8D72-7EC4676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216-34D2-4D96-AB7E-EE01730A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9F4-BF62-4EC6-A991-84556D21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D61-5DBB-4B5A-976F-13B33BB4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195-D44D-47AD-ADD1-246417B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6FE-5FE1-4DC6-A647-31A88AB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84D-924D-4BE1-9753-8745CA0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CAD-8824-4995-9029-9FA593E2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D7B-66D5-4E8B-9760-13F3125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077-8F2D-47D9-BED7-9666CA3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5E6-1498-4A48-A8B7-891DBAE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EA4-6093-4B40-92A0-17A3E89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2C618-41A0-4BF9-97BC-00578E3FE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