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76338"/>
        <c:axId val="84105468"/>
      </c:barChart>
      <c:catAx>
        <c:axId val="44676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05468"/>
        <c:crosses val="autoZero"/>
        <c:auto val="1"/>
        <c:lblAlgn val="ctr"/>
        <c:lblOffset val="100"/>
        <c:noMultiLvlLbl val="0"/>
      </c:catAx>
      <c:valAx>
        <c:axId val="84105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76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013-E055-44B9-91C6-4ABF50F8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6C0-CD2C-4F0C-B283-21E33B2E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CF0-ECDB-4483-916B-5D3D9811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EAD-3291-48CD-A5DD-9111E18B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843-E46C-41F9-A5F1-A34EF46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BBF-75FC-4F83-B1AD-09AF7F35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EE1-B906-47FA-9587-95187AA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D99-1EF5-43CB-9E1E-FC11173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973-65AE-4847-AE2C-5A1CB756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6A5-8C06-4844-A2A5-1912104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638-41A2-4160-9407-4E1038C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E6A-D8CD-4B45-9241-6B0CA23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0550-BFAF-4742-BDCE-909C1945D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