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72318"/>
        <c:axId val="71621752"/>
      </c:barChart>
      <c:catAx>
        <c:axId val="569723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21752"/>
        <c:crosses val="autoZero"/>
        <c:auto val="1"/>
        <c:lblAlgn val="ctr"/>
        <c:lblOffset val="100"/>
        <c:noMultiLvlLbl val="0"/>
      </c:catAx>
      <c:valAx>
        <c:axId val="716217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723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4F7-04DC-465A-A42F-59A069AF6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D7B-58E1-463F-8C5E-E144178D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190-E37A-480D-982E-1F451A86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5545-0DF4-44D2-8408-865C8B73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0452-743C-4B82-8229-8CB20503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87C4-DE8C-4487-8F6C-B45C338B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9C73-C850-4197-A36F-E426EB38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3EBA-4627-49FD-BEA4-095D69B5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7C5-49BF-4CF7-B27B-07B7F9FB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761-CBDB-4EEB-8D5B-98A0C039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CC42-ABFB-4622-B71D-4B183B35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0CC7-73D9-47F5-B25D-C8CED462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A059E-E812-4964-BF65-048450AE04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