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96054"/>
        <c:axId val="20726266"/>
      </c:barChart>
      <c:catAx>
        <c:axId val="21696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6266"/>
        <c:crosses val="autoZero"/>
        <c:auto val="1"/>
        <c:lblAlgn val="ctr"/>
        <c:lblOffset val="100"/>
        <c:noMultiLvlLbl val="0"/>
      </c:catAx>
      <c:valAx>
        <c:axId val="20726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96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3AF-0185-483E-B1CC-4959E0A4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D42-F163-4780-B3FD-4F64D28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588-B71D-4835-BEAE-61064FE2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ABA-365E-4CF1-9406-884E1C55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F62-7058-4D4A-B3CC-24CD87EA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74C-8203-42DD-9BF9-E6D4F1AA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FD7-C2C5-44E4-8F82-70CF8E2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9A0-8F68-48FE-99C9-42DC6294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2E3-25B2-43CC-8DA9-170E87FA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489-C324-418E-8817-35F3D55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6AA-92AC-4469-9A74-762B935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132-A80F-487B-A022-63DA4B13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F3FD1-E6DB-4862-B124-69B29C919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