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799909"/>
        <c:axId val="32031059"/>
      </c:barChart>
      <c:catAx>
        <c:axId val="107999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031059"/>
        <c:crosses val="autoZero"/>
        <c:auto val="1"/>
        <c:lblAlgn val="ctr"/>
        <c:lblOffset val="100"/>
        <c:noMultiLvlLbl val="0"/>
      </c:catAx>
      <c:valAx>
        <c:axId val="320310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7999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C0B1-926E-4B89-A18D-E652CCCBE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6AE7-A749-4E32-8F78-97C9157E9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D70B-9FFB-4205-B313-788493901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F1D0-703F-4FAC-93F2-916E71F8F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FC61-E88F-4601-99F8-B7181AA2C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F3FB-9520-42B1-A1F1-97F236BDD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3D67-47C4-4C78-9274-F280C2F9E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AF6C-B39D-41F3-9039-4ED35869E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C0C0-75D2-45BF-9E18-8378DE64C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5440-9904-4434-990F-6B4DB205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C568-BC55-45B5-BC95-21146C852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B6E8-54DC-49AD-8033-3594B3EA9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3BA999-2A58-4FAE-9A2F-420DAC9802C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