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69949"/>
        <c:axId val="52326855"/>
      </c:barChart>
      <c:catAx>
        <c:axId val="34169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26855"/>
        <c:crosses val="autoZero"/>
        <c:auto val="1"/>
        <c:lblAlgn val="ctr"/>
        <c:lblOffset val="100"/>
        <c:noMultiLvlLbl val="0"/>
      </c:catAx>
      <c:valAx>
        <c:axId val="52326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69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D23-11CE-4E77-B1BE-4D70679B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273-2BF4-4813-9239-F7C34814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3DD-E24A-49D4-806E-BFEEA91D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C62-3239-430F-947C-DD29CD8F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1FF-BC47-49B2-819D-6392ED10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933-7393-4502-AA76-6A2F2178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DB5-267D-48C5-A69F-646717D2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D4C-688B-4E3B-A00C-52D9D711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032-64C4-4FE7-B6C9-B8B0EE01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DA9-606F-4493-AAD0-8DA8091A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17B-A840-489E-9C33-5EE5016E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287-D89E-4CE9-A9D7-EE68B6AF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F1FAE-51CE-4D13-818E-D5DA7D6B89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