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21531"/>
        <c:axId val="67805607"/>
      </c:barChart>
      <c:catAx>
        <c:axId val="20721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05607"/>
        <c:crosses val="autoZero"/>
        <c:auto val="1"/>
        <c:lblAlgn val="ctr"/>
        <c:lblOffset val="100"/>
        <c:noMultiLvlLbl val="0"/>
      </c:catAx>
      <c:valAx>
        <c:axId val="67805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21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B4F-ABBC-4037-92D2-8CB60D19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F19-F687-4C76-8F25-BA110660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CD6-1A4E-4F21-955F-2219C097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928-2E97-49F7-A9FA-F4F775C6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428-4735-42E2-9710-A0AC4A1D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EC1-4A2C-4C60-BBD9-EFE30791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85E-DDDC-45E9-A8D8-FBA264DE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539-6172-4C44-8484-2CABBB8C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C43-C764-4261-81DE-632F20AB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24F-7F46-4C8E-A10E-E5157FB2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46C-B36A-466A-8A4F-88BAA08B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E93-8A45-49F5-A41C-5995670B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664C7-806D-4521-8DDB-A7677F532D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