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68225"/>
        <c:axId val="40730251"/>
      </c:barChart>
      <c:catAx>
        <c:axId val="85368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30251"/>
        <c:crosses val="autoZero"/>
        <c:auto val="1"/>
        <c:lblAlgn val="ctr"/>
        <c:lblOffset val="100"/>
        <c:noMultiLvlLbl val="0"/>
      </c:catAx>
      <c:valAx>
        <c:axId val="40730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68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3DD-A218-420F-A86F-0BD8CD91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47F-52E8-4D2B-8A66-3F740F19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F9F-CD3C-4044-A26D-FB17A2CC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E41-0928-4F69-8F69-071E8B0B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3F0-E085-4D18-A171-F889511F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E61-3E77-47F2-973F-7076895D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BAD-8A40-479D-9CE5-136C68EF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97E-4C63-4640-9B8E-856A48A5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DEA-82D5-4A5A-BAA2-46936B71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89D-55C6-4A37-A9E7-FC5D3D3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7F5-DD5E-4BA8-A125-A71B0EF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481-460A-44AA-A680-A828EB8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7E54D-008A-465E-A2A0-14ABA621A4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