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01185"/>
        <c:axId val="38789354"/>
      </c:barChart>
      <c:catAx>
        <c:axId val="22501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89354"/>
        <c:crosses val="autoZero"/>
        <c:auto val="1"/>
        <c:lblAlgn val="ctr"/>
        <c:lblOffset val="100"/>
        <c:noMultiLvlLbl val="0"/>
      </c:catAx>
      <c:valAx>
        <c:axId val="38789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01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365-A70D-4BBA-B030-E564A2EE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9B5E-C612-4F47-AC18-3C995282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127-C853-45A2-AEF1-370176D4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30A-CB59-47D5-B005-DF1F03F5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DDA-4419-43EB-A05C-06AB9F72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8AE-496E-4DB3-BAB1-D18C7A59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C75-ED9F-4971-AFA9-7D866CFC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B40-66FE-488A-9DB0-6E65D5DD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0E9-CC59-462D-A037-AA79E042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73C-8533-430D-9FEA-E121C80C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329-1B7E-4C85-9166-59D3A6AB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3C4-1BA0-48AB-80EA-9F322965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6C4BC-BBD2-40E2-9839-9C962FB09B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