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1522"/>
        <c:axId val="16855509"/>
      </c:barChart>
      <c:catAx>
        <c:axId val="12171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55509"/>
        <c:crosses val="autoZero"/>
        <c:auto val="1"/>
        <c:lblAlgn val="ctr"/>
        <c:lblOffset val="100"/>
        <c:noMultiLvlLbl val="0"/>
      </c:catAx>
      <c:valAx>
        <c:axId val="1685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1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F81-9B1C-4ED3-91FC-FE979C97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9FB-9298-42A9-96C1-EC74F62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7F7-E504-494B-BAE5-6052E25F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BDE-FC61-4C81-A1A8-15F47163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769-DE9D-445D-B5DA-07877EF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F53-3188-4A50-9ED4-B3E7026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733-589D-4436-8F1C-D0938FDE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77F-6321-4B06-8A32-5698E0D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8D2-9D7B-4265-BC4A-B5C865BA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B33-2124-4ABF-B6AA-F3DE0E4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66-8B11-4AF1-9F50-7F6F5B6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6D0-9494-4E64-A561-3950CFA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3E2A-851C-4E87-AA7A-B45462F184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