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86165"/>
        <c:axId val="79990959"/>
      </c:barChart>
      <c:catAx>
        <c:axId val="16786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90959"/>
        <c:crosses val="autoZero"/>
        <c:auto val="1"/>
        <c:lblAlgn val="ctr"/>
        <c:lblOffset val="100"/>
        <c:noMultiLvlLbl val="0"/>
      </c:catAx>
      <c:valAx>
        <c:axId val="7999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86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8C2-A8ED-4C7A-B46B-43A1EC5A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43B-FC08-4849-BB02-EAD08ED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1F1-83E1-4FA4-972E-02D11E5F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384-6FA2-48AB-AD91-D2DE2230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13E-B9B0-420B-8CFB-4A574A9E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006-D744-4283-A556-20F423A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763-C045-4E30-8D3C-D9CC5CD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A9E-EA3E-4984-9F7D-FE21E4F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F84-C2CB-442C-8154-062A89B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DE0-21CE-48A6-A755-739579F2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9E1-98BB-42AE-929E-FA323D5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BF7-C22D-4525-815B-4F67613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81A14-692D-4DFA-8D0C-5389629141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