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58799E-029A-4BF1-BB1F-4CDB0667B1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94D8AE-672B-46A0-9EED-310708A7B2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2747E2-CFFE-426C-8DC8-D70DBD41DB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B6BC27-19E2-43FA-8C6B-3E1CC9A3D0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7C48246-0755-4420-9900-02EFEBA0624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0D41AD-032B-440D-BF3C-FA323E6649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5B083A-A8A4-4A3D-BE51-913B40DCF2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938D3A-D4E7-4BF6-9E0B-FA1CBD0B4D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696C9A-B9B5-48AC-B489-EA255BEDAC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8B563D-2380-42BA-B1DD-ED784079F3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DCDA9F-22AB-4825-ABEB-F674086788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8D7782-A291-4774-99A5-169D690327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DC1BB4-5E05-4113-ABDF-961DE96A03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CD201E-D880-4A18-BBC6-DF9195118B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4AD75D-3C43-46F1-954C-5BF225E5F8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DE7B408-9551-42E9-BA91-876CF7A5B10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E354629-2E97-4039-8AC8-48123CD6424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48B47E-D255-405C-A9EE-DAD7DED311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77F11A-7B24-4374-8170-4A75751616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8D4C0A-980B-46CE-97D6-432CEEE119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ABC2CA-FF56-4DC1-96E2-D9F8FE4B48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C75C23-919C-46F1-8213-6AA6F4E1BE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9E82A7-C5AB-4851-814A-1A2BD754AB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7DE282-4CDF-4BAC-AD0A-37E932FBE85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D8E92F-3445-4DF6-8429-9B812F42BE0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1F5D01-9914-4545-B48D-E0DF41675F1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4851F8D-AE44-49FC-B584-158F2DBA475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C474663-60F1-42E8-9EF8-98BECF2CAB77}"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815447-DF14-405B-8091-18707037FC2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2353D1-FAC3-40EB-99A9-E9D8A06BE566}"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AA0C9B-C93F-4928-80E8-97BA39B2498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D623AB-8289-4903-8FF1-32A8E96B6E28}"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733075-5AA2-404C-987F-E6C9A760D8C0}"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CA41FE-0552-4FFC-8E92-2E0F8FA55C46}"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571AD7-6647-423E-AA60-53E3FB21C0F5}"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B93998-F50B-41F6-A966-160CC9B7EE62}"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7D76D2-4D42-4919-BD53-BE8795B6BBE7}"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97DD60-3228-4B13-A9BD-54970AA279B7}"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A997CC-5C66-4498-894D-518E201CF3C7}"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EAA5FB-AD0A-47C1-B1A2-128740F1013E}"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A0C730-F7D1-47DB-89B8-933BC52168B9}"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859A6A-BA77-4FB5-BCB3-500DBAFDE6DD}"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ED1095-2F78-4F30-89BA-CB653D1FD886}"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0C39AF-C4F0-4711-ABE7-5D61CFA63F9A}"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63E8B0-B97E-421A-873C-5406DE4E49B2}"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6CA5F9-777F-41BA-B161-FBC3ABD101F2}"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78A0F0-501C-41A7-9061-35386AF337C6}"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CD1F25-61D6-4CDD-8945-8267A485D519}"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3A0BE8-7F30-47CB-A8E1-40A51DA505B0}"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56211B-93F8-4FB1-A3A9-D23370611F76}"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5D1377-8F0C-4794-9F03-518B290BEA8C}"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DF27BD-0F3E-485C-AE62-9D2491DDC195}"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A0725E-A025-4CFE-91F0-2B26AC73E2B9}"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04B06E7-FB6D-49E5-B6CA-B3E8F3B9957F}"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FF04B2-1E0F-4D80-B231-0E083425EF22}"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7F6E7D-44A9-407B-8796-6535494E5AAD}"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71E9B0-7ABA-49F5-AA0B-EE48D07EEA26}"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DFAF94-902D-4205-B817-69DF489BBD8C}"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5FD9A0-8967-4079-9F50-26643BF2EBF2}"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8D759C-BD68-4344-BB49-A8A75D026336}"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B5DB5C-FB30-4967-93C2-7660583116FB}"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22BEA8-EB92-4965-A27B-7669550C7ECE}"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2571DC-6CB3-414E-AA82-141E73E53C24}"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57BA5B-5282-4ADE-AC48-51008EBDDF64}"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F8DAA7-0024-4B7D-9EF1-A1E25B7E71A0}"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32BF41-DE22-475D-85E2-CB238A3B4C9B}"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A71224-16A8-4923-8173-CA779A84CB8F}"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98C0FA-5BA1-43E3-9931-D8F4E8545B8F}"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6BBA55-E9C6-4AEB-A17E-F91E554830C0}"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8C63E3-3A33-4C64-A934-8B42F8ABA63A}"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5CC3C8-83D4-418E-847D-A40902FD8C9F}"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DEA42E-E65B-4A1F-AFAA-EBFB148CFC90}"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6157DD-6234-4878-8BED-DE0B39BC9CAB}"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914BFC-FBC1-43DE-9A65-A7BFE279B655}"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0642C8D-AFFB-4935-884F-97BE86F7C0CF}"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C048D3-F321-4582-90AF-DDC9300246E8}"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85DCDC-AED0-47F2-A5DA-7103F58C81EF}"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5F818E7-F458-4497-92D1-1183E5AC2D59}"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A70935-2E7A-4CE6-B7BE-C6F21A84C96A}"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E177E0-BF30-484A-A64C-FCCF04C2D546}"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4A7BAE-C003-4C4B-ADB2-8DBDF8CF1460}"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9437C1-E1FD-43E4-A8A4-1C60F4D0F31B}"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966787-1BEF-4960-8949-97649AD5C6E0}"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C187BA-6459-43FB-A1F5-0E846DDC1683}"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48E4BD-74CE-46F2-8BC5-B284F9D77C93}"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AB02BEC-B995-4ABC-BA80-0FAB2C50A9AD}"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7B18C9-75E3-4370-980F-F1EA24775027}"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C877F0-7CE3-4E0A-910D-6A9B0D347321}"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7A2736-3CE9-4D08-8A24-65DF6CDD9391}"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0136B7-37AE-4572-B32A-15E82B070C81}"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8CA06A-9BF3-4CE6-B84B-9AF2D5493D0E}"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049B25F-34D5-4C56-AA35-6DC10E31A09D}"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AA1879-D4A6-4D07-96A9-6A00C9F4C618}"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2DEE58-9E68-4108-8469-AAC4747CA2AC}"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2CF025-4DDE-4F2A-878A-97E42079636C}"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D6C692-9DDC-436C-815D-6CD7E1CD0EC5}"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62AFFE3-A5A6-483A-AEB9-CEDA57F39F6C}"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954175-0C37-403B-AB4C-076D6A825D26}"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C369E5-9553-44A9-A7A1-69D4BADBE468}"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4E27CE-6CB2-4D49-BE9C-DD2AD7618829}"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763B9B-CA07-46D3-91F3-B0C86FB4F7DC}"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8D713A-B360-4BC5-85F7-0F7E661D2EDC}"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9B8D74-2F0C-4A66-AAA8-22EBC7FF5C86}"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A1B34BF-C670-45D6-920B-7828C047F53A}"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A55229-BA84-49DD-B139-FE406632A1D3}"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475D02-A37C-4610-9514-74525D3B3386}"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0D4BAA-9D32-47D0-9FB8-3393970FF015}"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DD27240-2282-41FA-B8A5-A68CA315AE60}"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A00122-EE83-4012-AB06-DE49F6276991}"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1488FCB-3B75-48A2-9C3A-094D8E701527}"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97347B-4AAF-4363-893B-BA42EE1DD352}"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22A2E1-9B7C-47EE-9426-6D28B5520920}"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42E715-9387-43E0-AD88-E1475FE92BE3}"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34E07E-FDF8-498A-B993-1E66D30F3A43}"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C67338-168E-41D5-88E7-8A8EC67D5B2A}"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6EF250-3C5D-437A-9D0E-4855BD58305B}"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589742-F2A6-4531-822A-C73CB3EDB457}"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3E6DF3-8D0C-4CF5-AA96-E383CEE4DD7C}"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E9505B-4839-4367-977F-28BD73CC7B64}"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8E4331-F360-40BB-A542-A4CEA1665573}"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6A9BBD-1E95-4516-8BA4-EBBA6EC6DC43}"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0B2450-9626-473F-8E74-F1E8BEAB00BD}"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B23227-2107-44F3-AF85-AB82C9C1E227}"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451263-3051-4B9C-8BAA-AA9360BECA23}"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9D3DFE-4F0B-419A-80A1-5D362D1F0AB4}"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B466A5E-D285-448E-8A10-DD78EA452434}"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0499C3-7487-4BDF-8CB8-FE9553F41073}"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FE8D80-0316-41AB-979A-F9627429ABCC}"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FB72E7-CA47-4C32-8AFC-05E3331090CF}"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A034DD-5D3E-48B9-8087-E2FF22D691E7}"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9476F9-DED6-4A41-8054-30AE7615A019}"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3C36A8-4F59-4051-8FAF-CCB6D3CD2ACE}"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14E533-75FA-4BE3-8871-9A5B3ABE5D88}"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9B1FB6-F6D5-4D47-8140-11898644CB2C}"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165768-2CA7-4F58-9003-5B71F3993513}"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19950C-5858-4FB0-AC0F-2127DACFC687}"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E97A6C-B727-4E4C-8B09-71FF271425BE}"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390C97-0AA1-41E0-A61C-9C151BCE4FB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E9C176-17C7-4E4F-9CA3-52A881A25D0D}"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FE1250-68E0-4241-8252-3202D7790E37}"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FE2FDC-3DE9-441F-92FC-D02B6AFB9BD0}"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61837A-3827-49B4-B0E9-880FF00E3DE6}"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4DAF07-46A7-4638-A00B-390D12E3908B}"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41E402-192B-4B92-B583-448C8CFBCF0D}"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DB3F70-D4CB-4025-98D7-6DF49D68CF60}"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623F84-2DFD-4E1B-951D-527DEC149681}"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82E242-58B6-4141-AEA5-24E98526C800}"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9CB080-708A-4F7D-BDD1-F09915F144DF}"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C71D77-979D-4815-BFBC-B146A37BCCF0}"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268496-E579-411A-880F-31CF8C89E6C7}"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766070-07C9-461B-842D-DD915A248574}"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0F19E5-B305-44A7-8107-F46DCC111024}"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545544-189B-43F4-9859-AA1C9E1B0051}"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626BFEB-509D-4BA5-A5B4-E2E6CF364472}"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4A0DD8-8171-4505-88E1-ABBEFCD3D2C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5DE7BE-24F2-485B-B3FA-6134DA3E1D0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B47B1F-6D2F-4EB1-B775-D2CBED3D78E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E3A40D-A99E-452E-A751-8545A5A453A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DF1257-84D7-4437-8848-B06632E491D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AF7816-A605-4D90-9051-E7DF6744880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7E3A156-18D1-4E24-BE2A-6B0EAA13C37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D874F0-3CDE-4BBA-A206-FF81C409304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4E9774-FD15-43BE-B185-6845DCC3ED0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040B25-B327-4888-ADAE-2CAEAD777E9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1674D8-AF7E-4339-A018-F1B3B251B1A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FF39CC-CA77-484B-BCBF-7C06B006574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5F1B75-E2EF-4582-8339-951F69876A5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8587FA-F8CC-4238-A515-3E8A66ACCA4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62DF35-162D-4F70-A01B-CDED8354CAE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9E51BA-281E-4219-AFCB-9DE71D507D9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7A1544-1E96-4EE4-851F-570DF8B6EF4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784EEA-15D5-4487-9DAC-6C952B3B271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485576-1A05-4673-A342-3466B4E8085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1F99B3-1F6F-4231-9B4D-1456B34A262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F56892-1433-40A4-965A-F278B3128EF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54A3E3-BAF5-4759-9B18-F6219D190AA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5D8302-588D-406E-863B-4D22447706D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526E3B-732C-47A9-AA67-C27FC6D6480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D98FC7-F4D2-4322-94B2-C4A6AFACBA2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C0F1F9-018F-4D70-A30C-8ED923BD75D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A106D6-4E1B-4DDD-A234-F38B978948E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82D745-BB5D-4A6B-B761-060FE209880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8AAD14-0628-491E-9DCF-035F3ECBAAD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9138E5-7341-4A00-9014-45B4884A0E6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AF894E-1F53-49DA-B4F2-ADD24A3DB95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E697C5-DADE-4C4B-9B29-16CC01C2EFB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E04982-1D7B-426C-8DC9-87692EB2690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BC3A83-31EF-4091-9B03-9BD98E6E494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D1A6D1-B221-4C81-B559-768ABA9105B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4895F5-6B19-4390-BC4A-61CD0037AC6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B4A9A4-0032-43AC-B419-810E6CD2BF3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32D1CB-1641-426E-9366-B317D9826795}"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62123D-185B-49AF-8065-BE5CA8960FF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2B40F8-851E-443B-A326-19A673697542}"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A5241F-0287-46A4-A654-2786D722BAB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B41AF6-9136-402D-A838-B73DB79B1563}"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5FA2AC-0D8A-4F60-9B8D-4311095FEB8B}"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2E1888-097A-45C2-8C41-0ACED4C934F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EB41BD-6087-473D-92A0-882ABE4FF0E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070AD1-D72D-4E67-8C44-44544EB46DE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AF2AFB-B85B-4B1F-A587-7D80EA305B3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E9764D7-817C-43DC-97DE-9C9408A75D2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9FB362-24A4-4255-8141-86A9F59A58CB}"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82DD83-1DB7-4131-9FE1-E0CE9D36770E}"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5146CB-C932-4969-B294-A31F1F97797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BF839C-B663-47A5-A061-96C81751E55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5D6780-E916-427A-A90E-86A97FF9D75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88048A-25CD-4213-AA61-E361B977B8A0}"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38F53F-8865-46A9-B67E-895A0003042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98D525-A1D6-4284-AA57-4A7B4EBA1DD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B85471F-ADA4-4D45-B01A-3C03D8BB3DA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7341B3-3AB7-4718-B086-7C3504BF264E}"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C1FB32-93DD-458E-AD94-1A502788942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C16C03-A76E-442D-BF32-79DEC3C022D7}"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E68B3E-9F7A-4663-A7FE-F09C63ECFA7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4865FC-3D2B-454B-86F4-CAEE446779DD}"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5EB186-7F37-46C7-A754-5D2C181B6320}"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F16A27-620C-486E-87E6-441F251375C4}"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317366-9EF1-49D0-ACFE-6633506205B2}"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A90A62-F55A-4A49-82D4-A5EBA2961805}"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19F9A1-9F0B-4920-8DAA-944AF64A62EC}"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AD7768-D952-4E70-9E23-750EA61C5410}"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736493-9DFC-426C-8DDF-1E839B77D3E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591E9A-C79D-4C5B-8627-D8FBF44F55ED}"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9F48F7-8704-45EC-8E70-E86C7BFF72CF}"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A9D5C61-89DB-4529-A301-F7C675191931}"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0F72B5-67CD-4B49-B626-8BAD016494B8}"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150E7D-254D-4C4F-B2A0-D56498AFB617}"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CF068E-FBF3-4C0A-9E1B-DAAC59A7A51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7B459D-4AD2-422F-B91C-22D5E76D602D}"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F17D52-B467-4469-A946-BEF2E90DE070}"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40FD1A-DCE5-4920-8328-6D647C9F49AA}"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7CE355-888C-4FA6-831D-E57E1D8AB326}"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E66D4C-16F2-4C9B-B15C-73F8CEAB9214}"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52CFCD-C139-4226-BBB2-CE44EC3719C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6CE69C-4D46-480A-BD8B-69E8691110F5}"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CE757E-4F89-4D23-9562-4A448E16BD49}"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34E028-BBB4-44F6-8657-C2687019C3FF}"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47AA86-D020-4431-92BA-915827D23C08}"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