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27216"/>
        <c:axId val="24545639"/>
      </c:barChart>
      <c:catAx>
        <c:axId val="47127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5639"/>
        <c:crosses val="autoZero"/>
        <c:auto val="1"/>
        <c:lblAlgn val="ctr"/>
        <c:lblOffset val="100"/>
        <c:noMultiLvlLbl val="0"/>
      </c:catAx>
      <c:valAx>
        <c:axId val="24545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27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033-CCCE-435B-805C-0284CB49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029-831F-45ED-8335-B4799CA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CFB-C499-47C3-B143-5A2FD81C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AD5-A2ED-4274-86EC-9D8262CF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E50-0BA3-4B98-B1EE-944C722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71B-92A1-4A17-B663-3FFF5A3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3D5-2BA0-4053-8D23-3D4A9746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A63-9841-4B0B-9156-ED9A367E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727-3367-48D6-8C1A-8DE581D0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90F-148E-43BE-A5BC-2A2200D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D35-D4C1-433D-A3AE-A367A0C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FAA-FDE2-45D1-A57F-E0954B6A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EE56D-9D6B-4683-86DC-9D8BCC82FF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