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8710"/>
        <c:axId val="28973359"/>
      </c:barChart>
      <c:catAx>
        <c:axId val="3588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73359"/>
        <c:crosses val="autoZero"/>
        <c:auto val="1"/>
        <c:lblAlgn val="ctr"/>
        <c:lblOffset val="100"/>
        <c:noMultiLvlLbl val="0"/>
      </c:catAx>
      <c:valAx>
        <c:axId val="28973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EE2-3F52-4C58-B9D7-658CA847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0E1-85DB-4C2A-A97D-2393ED0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F66-6DEC-456B-857D-5F26B54E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464-6BEA-405F-8E4A-F6155B38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DE3-6EE3-4BAD-A9AF-7FC55159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833-F1E0-4A77-8692-1497451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EC2-9461-4DE5-BBB4-4591830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4AA-8857-434F-B267-6EA83C12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7DE-750A-4853-A6B0-7F95201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90A-8A0B-401A-AFC3-C7B841E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C04-E92C-47B4-B6BD-9B3C80A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B87-CECC-4E47-99D3-BD2C038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97580-FDB9-404A-91A8-4C4CE8667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